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bmsfx3.wav" ContentType="audio/x-wav"/>
  <Override PartName="/ppt/media/bmwon.wav" ContentType="audio/x-wav"/>
  <Override PartName="/ppt/media/bmfinal.wav" ContentType="audio/x-wav"/>
  <Override PartName="/ppt/media/image1.wmf" ContentType="image/x-wmf"/>
  <Override PartName="/ppt/media/wbmsfx5.wav" ContentType="audio/x-wav"/>
  <Override PartName="/ppt/media/image2.wmf" ContentType="image/x-wmf"/>
  <Override PartName="/ppt/media/wbmsfx7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150-218B-4F46-8821-F79C4B62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11B-3638-4B50-9CC8-0D08C96D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46C-C38B-4918-A047-01ABA213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98E-0AC1-463B-9E96-8918CBA4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8FE-5790-4324-9E3A-244A4E6C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825-8FAC-4812-AE01-33E52111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566-EEB7-4FE4-92FB-2FE2F06B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E0C-A166-47B0-BDC8-1F11B1CE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8DC-3E61-4C3D-9717-633A804E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91A-F588-41EC-8DFB-10C5B3D1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5C1-09D7-46D2-ACDB-36D06803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1DF-E072-407F-972B-CB6F7AB5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0A27-0845-44F6-A1AC-3A24BEE70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bmsfx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" Target="slide35.xml"/><Relationship Id="rId4" Type="http://schemas.openxmlformats.org/officeDocument/2006/relationships/slide" Target="slide33.xml"/><Relationship Id="rId5" Type="http://schemas.openxmlformats.org/officeDocument/2006/relationships/slide" Target="slide31.xml"/><Relationship Id="rId6" Type="http://schemas.openxmlformats.org/officeDocument/2006/relationships/slide" Target="slide29.xml"/><Relationship Id="rId7" Type="http://schemas.openxmlformats.org/officeDocument/2006/relationships/slide" Target="slide27.xml"/><Relationship Id="rId8" Type="http://schemas.openxmlformats.org/officeDocument/2006/relationships/slide" Target="slide25.xml"/><Relationship Id="rId9" Type="http://schemas.openxmlformats.org/officeDocument/2006/relationships/slide" Target="slide23.xml"/><Relationship Id="rId10" Type="http://schemas.openxmlformats.org/officeDocument/2006/relationships/slide" Target="slide21.xml"/><Relationship Id="rId11" Type="http://schemas.openxmlformats.org/officeDocument/2006/relationships/slide" Target="slide19.xml"/><Relationship Id="rId12" Type="http://schemas.openxmlformats.org/officeDocument/2006/relationships/slide" Target="slide17.xml"/><Relationship Id="rId13" Type="http://schemas.openxmlformats.org/officeDocument/2006/relationships/slide" Target="slide15.xml"/><Relationship Id="rId14" Type="http://schemas.openxmlformats.org/officeDocument/2006/relationships/slide" Target="slide13.xml"/><Relationship Id="rId15" Type="http://schemas.openxmlformats.org/officeDocument/2006/relationships/slide" Target="slide11.xml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3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wmf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4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6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bmsfx5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mwon.wav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mfinal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304920"/>
            <a:ext cx="8153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's Play . . .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3657600"/>
            <a:ext cx="8001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ho Wants To Be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Millionaire Student?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krakers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ffra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urn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ill that originates from the people rath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slators is known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ferend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amend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which of the following places did 146 female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in a f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mid 1800s, the majority of w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held jobs worked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phone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mid 1800s, the majority of w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held jobs worked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irst person to use the presidency as a “b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lpit”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sev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cKin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irst person to use the presidency as a “b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lpit”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sev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cKin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w that required truthful labels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kins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t Inspection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pburn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e Food and D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w that required truthful labels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t Inspection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e Food and D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imary goal of the NAACP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lity am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ffrage for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ter 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89548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80060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28600"/>
            <a:ext cx="3200400" cy="640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362320"/>
            <a:ext cx="0" cy="533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038480"/>
            <a:ext cx="0" cy="762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17524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350532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4100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523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7920" y="3048120"/>
            <a:ext cx="925560" cy="90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4867200"/>
            <a:ext cx="990360" cy="97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00600" y="0"/>
            <a:ext cx="3429000" cy="695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$ 1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$ 5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$ 25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$ 1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$ 6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$ 3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$ 1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$ 8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$ 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$ 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$ 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$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$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$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imary goal of the NAACP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lity am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ffrage for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w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result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 of the assembly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er wo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r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ed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er 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w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result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 of the assembly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er 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gained the most from the ratification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eenth Amend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tical b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 legis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ial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dinary citiz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gained the most from the ratification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eenth Amend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 legis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dinary citiz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statement best characterizes Roosevel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 on tru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sts were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trusts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m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sts benefi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rusts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statement best characterizes Roosevel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 on tru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trusts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m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rusts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statement best characterizes Pinchot to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 conserv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stricte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 accep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ulti-use 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 w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atization shou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prohib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ustrial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uld be the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statement best characterizes Pinchot to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 conserv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stricte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 accep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ulti-use 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 w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Presidential election of 1912 the 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ed least pleasing to reformers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sev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09480"/>
            <a:ext cx="7696080" cy="3200400"/>
          </a:xfrm>
          <a:prstGeom prst="roundRect">
            <a:avLst>
              <a:gd name="adj" fmla="val 1716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990720"/>
            <a:ext cx="7238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rry, that is not corr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 you for play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648320"/>
            <a:ext cx="1066680" cy="11430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8265"/>
                </a:moveTo>
                <a:lnTo>
                  <a:pt x="7301" y="8265"/>
                </a:lnTo>
                <a:lnTo>
                  <a:pt x="7301" y="13600"/>
                </a:lnTo>
                <a:cubicBezTo>
                  <a:pt x="7301" y="14523"/>
                  <a:pt x="8102" y="15254"/>
                  <a:pt x="9138" y="15254"/>
                </a:cubicBezTo>
                <a:lnTo>
                  <a:pt x="10800" y="15254"/>
                </a:lnTo>
                <a:cubicBezTo>
                  <a:pt x="11836" y="15254"/>
                  <a:pt x="12636" y="14523"/>
                  <a:pt x="12636" y="13600"/>
                </a:cubicBezTo>
                <a:lnTo>
                  <a:pt x="12636" y="8265"/>
                </a:lnTo>
                <a:lnTo>
                  <a:pt x="10800" y="8265"/>
                </a:lnTo>
                <a:lnTo>
                  <a:pt x="14308" y="4757"/>
                </a:lnTo>
                <a:lnTo>
                  <a:pt x="17981" y="8265"/>
                </a:lnTo>
                <a:lnTo>
                  <a:pt x="16144" y="8265"/>
                </a:lnTo>
                <a:lnTo>
                  <a:pt x="16144" y="13600"/>
                </a:lnTo>
                <a:cubicBezTo>
                  <a:pt x="16144" y="16368"/>
                  <a:pt x="13568" y="18927"/>
                  <a:pt x="10800" y="18927"/>
                </a:cubicBezTo>
                <a:lnTo>
                  <a:pt x="9138" y="18927"/>
                </a:lnTo>
                <a:cubicBezTo>
                  <a:pt x="6370" y="18927"/>
                  <a:pt x="3794" y="16368"/>
                  <a:pt x="3794" y="136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Presidential election of 1912 the 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ed least pleasing to reformers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800600" y="5486400"/>
            <a:ext cx="3505320" cy="762120"/>
            <a:chOff x="4800600" y="5486400"/>
            <a:chExt cx="3505320" cy="762120"/>
          </a:xfrm>
        </p:grpSpPr>
        <p:sp>
          <p:nvSpPr>
            <p:cNvPr id="553" name=""/>
            <p:cNvSpPr/>
            <p:nvPr/>
          </p:nvSpPr>
          <p:spPr>
            <a:xfrm>
              <a:off x="4800600" y="57150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6920" y="5486400"/>
              <a:ext cx="3429000" cy="762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00600" y="5638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muckrakers expos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uption in govern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ton Sincl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a M. Tar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coln Steff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wis 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muckrakers expos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uption in govern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ton Sincl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coln Steff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was the primary motivation for the pa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Sixteenth Amend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ace revenue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lower tari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b th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corpo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uce the 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tween the rich and p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te funds to pay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ture w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was the primary motivation for the pa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Sixteenth Amend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ace revenue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lower tari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b th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corpo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gressives regarded all of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worthy goals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moting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lf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ing econo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stering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moting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opo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gressives regarded all of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worthy goals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ing econo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moting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opo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45820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523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l on any stude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53416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k The Audien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28600"/>
            <a:ext cx="8229600" cy="5181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9480"/>
            <a:ext cx="76197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now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LLIONA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mw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447920"/>
            <a:ext cx="8534520" cy="2168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t’s righ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NEXT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ques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153640" cy="312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s that y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nal Answ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bmfinal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krakers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ffragi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urn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tic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erva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5T00:54:10Z</dcterms:created>
  <dc:creator>Cindy Robertson</dc:creator>
  <dc:description/>
  <dc:language>en-US</dc:language>
  <cp:lastModifiedBy>JDORMAN</cp:lastModifiedBy>
  <dcterms:modified xsi:type="dcterms:W3CDTF">2006-12-18T20:37:51Z</dcterms:modified>
  <cp:revision>225</cp:revision>
  <dc:subject/>
  <dc:title>PowerPoint Presentation</dc:title>
</cp:coreProperties>
</file>